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331-CCA7-47E6-BE9D-B361DC11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F45-AC76-480F-B557-CFDA038C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887-0D51-4CBB-9C7C-908F0821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A4C-B372-424A-B8D1-5A09A814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A9EA-6CAE-4A14-9984-3ADF1343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0D82-D013-4AFF-998A-4F52141E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97C2-54BD-4D62-9C39-69B28CEF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99D9-7945-4E1A-99C5-DB3B224A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58D9-841C-4136-B0EB-317A9095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1E97-AC5C-44AD-9289-4D98E8C2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5059-2422-4CD7-AB29-3E6DE059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0CD-D9C0-4022-86C5-DB912D66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16E4-B498-4AD0-A511-221490DA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FD1B-DCD2-483D-B428-9FB97F5C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F50F-DF1F-44D2-8DEE-A5310EA6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1983-1808-4E9E-B8B7-2C4755FD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CEB1-1E59-4A32-9B52-87928690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B8F-8D37-4DB7-845D-09453F49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536-83AE-43C5-8BC3-CC70F5F9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4E5-87AF-409D-9B03-368D13AD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797-1B99-4D09-BC24-04A3F916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495-2F5B-46F8-9852-7B8B7A21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095-2460-48A6-B1D2-1C2CB2BD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5C9-BBC6-46C5-A3ED-2C4000AD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0A1C-AAB6-4B20-834A-F86731E99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8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9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F13E-5795-4686-B47B-EE09CAF10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5</a:t>
            </a:r>
            <a:endParaRPr b="1" lang="en-US" sz="8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Operating Systems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Network Operating System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etwork operating systems are designed to allow many users to share files and resource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Types of Network O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etwork operating systems include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work with many kinds of compu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rsion of UNIX distributed for f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 OS X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etworks by Ap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’s network 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ach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er software distributed for f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Futura Md BT"/>
              </a:rPr>
              <a:t>The Operating System</a:t>
            </a:r>
            <a:endParaRPr b="0" lang="en-US" sz="44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hen working with multimedia, the operating system is perhaps the most important, the most complex, and the least visible software that your computer use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The Four Layers of a Computer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Your computer is a system of four interdependent layers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f05_01 copy"/>
          <p:cNvPicPr/>
          <p:nvPr/>
        </p:nvPicPr>
        <p:blipFill>
          <a:blip r:embed="rId6"/>
          <a:stretch/>
        </p:blipFill>
        <p:spPr>
          <a:xfrm>
            <a:off x="4724280" y="240048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do the four layers do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ivates the B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asic input/output system) starts the operating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ads drivers, networking services, and application software into the computer’s 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you to create your multimedia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What are programming languages?</a:t>
            </a:r>
            <a:endParaRPr b="0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gramming languages provide instructions to operating systems.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42040" y="1981080"/>
          <a:ext cx="3031920" cy="403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42040" y="1981080"/>
                    <a:ext cx="30319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Types of Programming Languages</a:t>
            </a:r>
            <a:endParaRPr b="0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 langua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only language a computer’s CPU can 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mbly langua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programming language that the CPU can quickly encode to machine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-level programming languag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languages that computers can interpret quickly but are not like human languag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ore Programming Languag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igh-level programming language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programming languages that resemble human languag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compilers to convert high-level languages to machine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C++, Java, Visual Basic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Graphical User Interface (GUI)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icrosoft Window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d in 198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st used PC operating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a huge number of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pple Mac OS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ed from the first PCs to use GU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by many designers and multimedia produc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are often not compatible with 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DA Operating System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most popular PDA operating systems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lm O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S for iDe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3:53:45Z</dcterms:created>
  <dc:creator>Danielle Perkins</dc:creator>
  <dc:description/>
  <dc:language>en-US</dc:language>
  <cp:lastModifiedBy>Sandra Hines</cp:lastModifiedBy>
  <dcterms:modified xsi:type="dcterms:W3CDTF">2012-06-27T20:39:08Z</dcterms:modified>
  <cp:revision>20</cp:revision>
  <dc:subject/>
  <dc:title>Chapter 5 Operating Systems</dc:title>
</cp:coreProperties>
</file>